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53E2C7-7014-48E2-9080-A9CB2F24D5A1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1DFEF8-98D3-480B-9910-B0B37BF1486D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8A203-34C2-4CAE-8053-00BAD9AC621C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9F0855-9589-473C-A48D-F24138514359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4F3913-6E57-430F-9EB8-4480D3F5D218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EFF01-D72C-4E14-A508-D98318DA7165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1BC390-A11E-4518-8D34-51097939F079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10BC3-261F-4589-98F6-37403FFDDC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12EB5-0385-4BFC-8EB0-EC34EB15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EB73A-24D6-4FC5-B9B6-D7360F89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BF351-B356-44B9-96F0-277CC116B2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21CE1-65F9-4B08-B642-1E02579613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E6851-A6F6-4114-97DE-7259E196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B3D9D-8C16-420F-912E-857C06D0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330A5-DA4A-4272-AA8B-63DBEEFA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651E3-39B0-48DB-9C87-01FA93DAA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F4A36C-94BA-4F40-93F2-E109DAB60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30005-A525-44F9-AD13-6CC59F07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88AE2-25D4-4447-8E0F-EC2775DC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F9446D-4383-4216-91BF-A86024D4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28FB5-704F-446A-A3A7-0695499F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8F8F22-BFEB-4B81-B45B-97A7C732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81E70F-72AC-4C29-BD31-4CEC3588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BC6B8-DFAB-4A6A-812C-31F0A7CA14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354E1-B97A-4A59-BD49-E2E27059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EA15C-8B08-4106-ACBF-F155A1B2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62B3B-FC88-46AA-B1ED-B736EE7C2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0A4E8-A01D-40C9-93AF-5CE9549AD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ECFE1-5DF2-462F-BCDC-C8FAA88C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776F8-28EE-45E2-905B-34A3D06E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80592-68E3-42D6-A856-0E72AD14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b8b8b"/>
                </a:solidFill>
                <a:latin typeface="Calibri"/>
                <a:ea typeface="Segoe UI"/>
              </a:rPr>
              <a:t>17/10/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F1661-B816-4FD1-BD06-A2079092D114}" type="slidenum">
              <a:rPr b="0" lang="pt-BR" sz="1200" spc="-1" strike="noStrike">
                <a:solidFill>
                  <a:srgbClr val="8b8b8b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 fontScale="99000"/>
          </a:bodyPr>
          <a:p>
            <a:pPr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b8b8b"/>
                </a:solidFill>
                <a:latin typeface="Calibri"/>
                <a:ea typeface="Segoe UI"/>
              </a:rPr>
              <a:t>17/10/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b8b8b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B453E-EF36-4A1A-8852-BD44C8B34EC3}" type="slidenum">
              <a:rPr b="0" lang="pt-BR" sz="1200" spc="-1" strike="noStrike">
                <a:solidFill>
                  <a:srgbClr val="8b8b8b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357120" y="1357200"/>
            <a:ext cx="8602560" cy="40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3348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29160"/>
                <a:tab algn="l" pos="5037120"/>
                <a:tab algn="l" pos="553248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5560"/>
                <a:tab algn="l" pos="10029960"/>
                <a:tab algn="l" pos="10058400"/>
                <a:tab algn="l" pos="10329840"/>
                <a:tab algn="l" pos="10779120"/>
                <a:tab algn="l" pos="10782360"/>
              </a:tabLst>
            </a:pPr>
            <a:r>
              <a:rPr b="1" lang="pt-BR" sz="3600" spc="-1" strike="noStrike">
                <a:solidFill>
                  <a:srgbClr val="191966"/>
                </a:solidFill>
                <a:latin typeface="Arial Black"/>
              </a:rPr>
              <a:t>Revisão dos Benefícios por Incapacidade de Longa Duraçã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3348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29160"/>
                <a:tab algn="l" pos="5037120"/>
                <a:tab algn="l" pos="553248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5560"/>
                <a:tab algn="l" pos="10029960"/>
                <a:tab algn="l" pos="10058400"/>
                <a:tab algn="l" pos="10329840"/>
                <a:tab algn="l" pos="1077912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29160"/>
                <a:tab algn="l" pos="5037120"/>
                <a:tab algn="l" pos="553248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5560"/>
                <a:tab algn="l" pos="10029960"/>
                <a:tab algn="l" pos="1005840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29160"/>
                <a:tab algn="l" pos="5037120"/>
                <a:tab algn="l" pos="553248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5560"/>
                <a:tab algn="l" pos="10029960"/>
                <a:tab algn="l" pos="1005840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29160"/>
                <a:tab algn="l" pos="5037120"/>
                <a:tab algn="l" pos="553248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5560"/>
                <a:tab algn="l" pos="10029960"/>
                <a:tab algn="l" pos="10058400"/>
                <a:tab algn="l" pos="10329840"/>
                <a:tab algn="l" pos="10779120"/>
                <a:tab algn="l" pos="10782360"/>
              </a:tabLst>
            </a:pPr>
            <a:r>
              <a:rPr b="1" lang="pt-BR" sz="2400" spc="-1" strike="noStrike">
                <a:solidFill>
                  <a:srgbClr val="191966"/>
                </a:solidFill>
                <a:latin typeface="Arial Black"/>
                <a:ea typeface="Arial"/>
              </a:rPr>
              <a:t>Resultado do PRBI, com comparação entre benefícios por Incapacidade cessados x reativados por decisão jud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3348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29160"/>
                <a:tab algn="l" pos="5037120"/>
                <a:tab algn="l" pos="553248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5560"/>
                <a:tab algn="l" pos="10029960"/>
                <a:tab algn="l" pos="1005840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5000"/>
              </a:lnSpc>
              <a:spcBef>
                <a:spcPts val="3101"/>
              </a:spcBef>
              <a:tabLst>
                <a:tab algn="l" pos="0"/>
                <a:tab algn="l" pos="33480"/>
                <a:tab algn="l" pos="530280"/>
                <a:tab algn="l" pos="1038240"/>
                <a:tab algn="l" pos="1533600"/>
                <a:tab algn="l" pos="2028960"/>
                <a:tab algn="l" pos="2536920"/>
                <a:tab algn="l" pos="3032280"/>
                <a:tab algn="l" pos="3540240"/>
                <a:tab algn="l" pos="4035600"/>
                <a:tab algn="l" pos="4529160"/>
                <a:tab algn="l" pos="5037120"/>
                <a:tab algn="l" pos="5532480"/>
                <a:tab algn="l" pos="6016680"/>
                <a:tab algn="l" pos="6524640"/>
                <a:tab algn="l" pos="7020000"/>
                <a:tab algn="l" pos="7527960"/>
                <a:tab algn="l" pos="8023320"/>
                <a:tab algn="l" pos="8518680"/>
                <a:tab algn="l" pos="9026640"/>
                <a:tab algn="l" pos="9522000"/>
                <a:tab algn="l" pos="10015560"/>
                <a:tab algn="l" pos="10029960"/>
                <a:tab algn="l" pos="1005840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500040" y="1643040"/>
            <a:ext cx="81439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marL="266760" indent="-265320"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191966"/>
                </a:solidFill>
                <a:latin typeface="Arial"/>
              </a:rPr>
              <a:t>Auxílio-doenç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5320"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5320">
              <a:lnSpc>
                <a:spcPct val="100000"/>
              </a:lnSpc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</a:rPr>
              <a:t>Total de benefícios mantidos há mais de dois anos sem perícia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</a:rPr>
              <a:t>563.7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5320"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5320">
              <a:lnSpc>
                <a:spcPct val="100000"/>
              </a:lnSpc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</a:rPr>
              <a:t>Perícias realizadas até 16/10/2018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</a:rPr>
              <a:t>461.9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5320">
              <a:lnSpc>
                <a:spcPct val="100000"/>
              </a:lnSpc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Perícias realizadas em 2016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22.8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5320">
              <a:lnSpc>
                <a:spcPct val="100000"/>
              </a:lnSpc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Perícias realizadas em 2017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229.0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5320">
              <a:lnSpc>
                <a:spcPct val="100000"/>
              </a:lnSpc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Perícias realizadas em 2018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210.0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5320">
              <a:lnSpc>
                <a:spcPct val="100000"/>
              </a:lnSpc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</a:rPr>
              <a:t>Conclus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5320">
              <a:lnSpc>
                <a:spcPct val="100000"/>
              </a:lnSpc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Benefícios convertidos/mantidos/reabilitação profissional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104.264 (23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5320">
              <a:lnSpc>
                <a:spcPct val="100000"/>
              </a:lnSpc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Cessados com realização de perícia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357.695 (77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5320"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5320">
              <a:lnSpc>
                <a:spcPct val="100000"/>
              </a:lnSpc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Cessados por não atendimento à convocação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54.5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5320"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5320">
              <a:lnSpc>
                <a:spcPct val="100000"/>
              </a:lnSpc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</a:rPr>
              <a:t>Benefícios cessados (por não atendimento à convocação ou após realização de perícia)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</a:rPr>
              <a:t>412.2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71280" y="669960"/>
            <a:ext cx="90014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191966"/>
                </a:solidFill>
                <a:latin typeface="Arial Black"/>
              </a:rPr>
              <a:t>Revisão dos Benefícios por Incapacidad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191966"/>
                </a:solidFill>
                <a:latin typeface="Arial Black"/>
              </a:rPr>
              <a:t>resultados das perícias realizadas até 16/10/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142920" y="1643040"/>
            <a:ext cx="885816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4320" tIns="50760" bIns="5076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191966"/>
                </a:solidFill>
                <a:latin typeface="Arial"/>
              </a:rPr>
              <a:t>Aposentadoria por invali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Aft>
                <a:spcPts val="601"/>
              </a:spcAft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</a:rPr>
              <a:t>Total de benefícios mantidos há mais de dois anos sem perícia (em 06/01/2017 – MP 767/2017)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</a:rPr>
              <a:t>1.175.1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Aft>
                <a:spcPts val="601"/>
              </a:spcAft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</a:rPr>
              <a:t>Lei nº 13.457: Expurgo de aposentadoria por invalidez (segurado com idade maior ou igual a 55 anos de idade e 15 anos de benefício, até 31/12/2018)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</a:rPr>
              <a:t>369.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Aft>
                <a:spcPts val="601"/>
              </a:spcAft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</a:rPr>
              <a:t>Total de benefícios mantidos há mais de dois anos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</a:rPr>
              <a:t>805.7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Aft>
                <a:spcPts val="601"/>
              </a:spcAft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</a:rPr>
              <a:t>Perícias realizadas até 16/10/2018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</a:rPr>
              <a:t>645.1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Aft>
                <a:spcPts val="601"/>
              </a:spcAft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</a:rPr>
              <a:t>Conclus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spcAft>
                <a:spcPts val="601"/>
              </a:spcAft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 </a:t>
            </a:r>
            <a:r>
              <a:rPr b="0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Benefícios cessados com realização de perícia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187.590 (29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spcAft>
                <a:spcPts val="601"/>
              </a:spcAft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 </a:t>
            </a:r>
            <a:r>
              <a:rPr b="0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Benefícios mantidos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  <a:ea typeface="Microsoft YaHei"/>
              </a:rPr>
              <a:t>457.534  (7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Aft>
                <a:spcPts val="601"/>
              </a:spcAft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</a:rPr>
              <a:t>Cessados por não atendimento à convocação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</a:rPr>
              <a:t>19.1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Aft>
                <a:spcPts val="601"/>
              </a:spcAft>
              <a:buClr>
                <a:srgbClr val="191966"/>
              </a:buClr>
              <a:buFont typeface="Wingdings" charset="2"/>
              <a:buChar char=""/>
              <a:tabLst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191966"/>
                </a:solidFill>
                <a:latin typeface="Arial"/>
              </a:rPr>
              <a:t>Benefícios cessados (por não atendimento à convocação ou após realização de perícia): </a:t>
            </a:r>
            <a:r>
              <a:rPr b="1" lang="pt-BR" sz="1800" spc="-1" strike="noStrike">
                <a:solidFill>
                  <a:srgbClr val="191966"/>
                </a:solidFill>
                <a:latin typeface="Arial"/>
              </a:rPr>
              <a:t>206.7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71280" y="669960"/>
            <a:ext cx="90014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191966"/>
                </a:solidFill>
                <a:latin typeface="Arial Black"/>
              </a:rPr>
              <a:t>Revisão dos Benefícios por Incapacidad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191966"/>
                </a:solidFill>
                <a:latin typeface="Arial Black"/>
              </a:rPr>
              <a:t>resultados das perícias realizadas até 28/08/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500040" y="1285920"/>
            <a:ext cx="814392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71280" y="669960"/>
            <a:ext cx="90014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191966"/>
                </a:solidFill>
                <a:latin typeface="Arial Black"/>
              </a:rPr>
              <a:t>Índice de reforma das decisões administrativas pelo Poder Judiciário dos benefícios revisados pelo PRB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3"/>
          <a:stretch/>
        </p:blipFill>
        <p:spPr>
          <a:xfrm>
            <a:off x="2411280" y="1482840"/>
            <a:ext cx="4104000" cy="48924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79200" y="6191280"/>
            <a:ext cx="89204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191966"/>
                </a:solidFill>
                <a:latin typeface="Arial"/>
              </a:rPr>
              <a:t>Fonte: Coordenação-Geral de Gestão da Informação e Controle de Benefícios. Departamento de Benefícios Assistencia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191966"/>
                </a:solidFill>
                <a:latin typeface="Arial"/>
              </a:rPr>
              <a:t>e Previdenciários. Secretaria Nacional de Assistência Social – SNAS. Ministério do Desenvolvimento Social – MDS.</a:t>
            </a:r>
            <a:r>
              <a:rPr b="0" lang="pt-BR" sz="1800" spc="-1" strike="noStrike">
                <a:solidFill>
                  <a:srgbClr val="1919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6767640" y="5516640"/>
            <a:ext cx="22287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5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*Base de dados: benefício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cessados até 12/08/2018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500040" y="1285920"/>
            <a:ext cx="814392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71280" y="669960"/>
            <a:ext cx="900144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191966"/>
                </a:solidFill>
                <a:latin typeface="Arial Black"/>
              </a:rPr>
              <a:t>Índice de reforma das decisões administrativas pelo Poder Judiciário de todos os benefícios indeferidos pelo IN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00040" y="5832360"/>
            <a:ext cx="85647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8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38160"/>
                <a:tab algn="l" pos="533520"/>
                <a:tab algn="l" pos="1041480"/>
                <a:tab algn="l" pos="1536840"/>
                <a:tab algn="l" pos="2030400"/>
                <a:tab algn="l" pos="2540160"/>
                <a:tab algn="l" pos="3033720"/>
                <a:tab algn="l" pos="3543480"/>
                <a:tab algn="l" pos="4037040"/>
                <a:tab algn="l" pos="4532400"/>
                <a:tab algn="l" pos="5040360"/>
                <a:tab algn="l" pos="5535720"/>
                <a:tab algn="l" pos="6019920"/>
                <a:tab algn="l" pos="6527880"/>
                <a:tab algn="l" pos="7023240"/>
                <a:tab algn="l" pos="7531200"/>
                <a:tab algn="l" pos="8026560"/>
                <a:tab algn="l" pos="8520120"/>
                <a:tab algn="l" pos="9029880"/>
                <a:tab algn="l" pos="9523440"/>
                <a:tab algn="l" pos="10018800"/>
                <a:tab algn="l" pos="10031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191966"/>
                </a:solidFill>
                <a:latin typeface="Arial"/>
              </a:rPr>
              <a:t>Fonte: Plano de ação/Coordenação-Geral de Planejamento e Gestão Estratégica/IN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3"/>
          <a:stretch/>
        </p:blipFill>
        <p:spPr>
          <a:xfrm>
            <a:off x="500040" y="2139840"/>
            <a:ext cx="8086680" cy="3619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"/>
          <p:cNvPicPr/>
          <p:nvPr/>
        </p:nvPicPr>
        <p:blipFill>
          <a:blip r:embed="rId4"/>
          <a:stretch/>
        </p:blipFill>
        <p:spPr>
          <a:xfrm>
            <a:off x="144360" y="2496960"/>
            <a:ext cx="327240" cy="30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285840" y="1071720"/>
            <a:ext cx="857232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3366"/>
                </a:solidFill>
                <a:latin typeface="Calibri"/>
              </a:rPr>
              <a:t>Obrigad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000" spc="-1" strike="noStrike">
                <a:solidFill>
                  <a:srgbClr val="003366"/>
                </a:solidFill>
                <a:latin typeface="Calibri"/>
              </a:rPr>
              <a:t>Dra Karina Braido Santurbano de Teive e Argo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000" spc="-1" strike="noStrike">
                <a:solidFill>
                  <a:srgbClr val="003366"/>
                </a:solidFill>
                <a:latin typeface="Calibri"/>
              </a:rPr>
              <a:t>Diretora de Saúde do Trabalhado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000" spc="-1" strike="noStrike">
                <a:solidFill>
                  <a:srgbClr val="003366"/>
                </a:solidFill>
                <a:latin typeface="Calibri"/>
              </a:rPr>
              <a:t>DIRSAT – IN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 u="sng">
                <a:solidFill>
                  <a:srgbClr val="003366"/>
                </a:solidFill>
                <a:uFillTx/>
                <a:latin typeface="Calibri"/>
              </a:rPr>
              <a:t>dirsat@inss.gov.b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6T14:10:45Z</dcterms:created>
  <dc:creator>inss</dc:creator>
  <dc:description/>
  <dc:language>en-US</dc:language>
  <cp:lastModifiedBy>Silvana do Socorro Machado Rodrigues - MPS</cp:lastModifiedBy>
  <cp:lastPrinted>2018-10-17T21:10:33Z</cp:lastPrinted>
  <dcterms:modified xsi:type="dcterms:W3CDTF">2018-10-17T21:40:15Z</dcterms:modified>
  <cp:revision>6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Apresentação na tela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7</vt:r8>
  </property>
</Properties>
</file>